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4FC5-B945-4976-85EE-08829029F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3E9-1312-4D77-8E40-83A2F2FC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3CF2-5C97-429F-A887-315AA5FF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5EEB-5423-4F98-B544-CB69F4A7A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678-2646-40FD-90BD-555ED025A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CE50-C773-4774-B503-6701271FB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B6BC-4402-4C7F-81B6-CED93FB0B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3107-FC5E-4C43-847A-3CFAB9E1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EE0C-EC8B-4245-9464-A1FDD05C1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C598-E9E6-4899-9064-5663F9D4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B531-4727-4D6C-85B9-6CE8A13C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7C5-3A16-4AE0-BBBA-1DB986D46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3735-63E4-48C9-B73F-C10AB06286D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1693800" y="2243160"/>
            <a:ext cx="522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幼圆"/>
                <a:ea typeface="幼圆"/>
              </a:rPr>
              <a:t>9. </a:t>
            </a:r>
            <a:r>
              <a:rPr b="1" lang="zh-CN" sz="6000" spc="-1" strike="noStrike">
                <a:solidFill>
                  <a:srgbClr val="0000cc"/>
                </a:solidFill>
                <a:latin typeface="幼圆"/>
                <a:ea typeface="幼圆"/>
              </a:rPr>
              <a:t>黄山奇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3"/>
          <p:cNvSpPr/>
          <p:nvPr/>
        </p:nvSpPr>
        <p:spPr>
          <a:xfrm>
            <a:off x="1324440" y="4287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方正姚体"/>
                <a:ea typeface="方正姚体"/>
              </a:rPr>
              <a:t>部编教材二年级上册第四单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1692360" y="4525920"/>
            <a:ext cx="632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安徽省合肥市张茂平工作室      刘彬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找出你觉得最有趣的地方，读出奇石之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同桌合作，表演读，一人读，一人配合作动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7"/>
          <p:cNvSpPr/>
          <p:nvPr/>
        </p:nvSpPr>
        <p:spPr>
          <a:xfrm>
            <a:off x="457200" y="476280"/>
            <a:ext cx="3529080" cy="100800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多种形式读出奇石之“奇趣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板块三   多种方式   背诵课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内容占位符 1" descr=""/>
          <p:cNvPicPr/>
          <p:nvPr/>
        </p:nvPicPr>
        <p:blipFill>
          <a:blip r:embed="rId1"/>
          <a:stretch/>
        </p:blipFill>
        <p:spPr>
          <a:xfrm>
            <a:off x="2124000" y="115920"/>
            <a:ext cx="6193080" cy="3600360"/>
          </a:xfrm>
          <a:prstGeom prst="rect">
            <a:avLst/>
          </a:prstGeom>
          <a:ln w="0">
            <a:noFill/>
          </a:ln>
        </p:spPr>
      </p:pic>
      <p:sp>
        <p:nvSpPr>
          <p:cNvPr id="66" name="文本框 4"/>
          <p:cNvSpPr/>
          <p:nvPr/>
        </p:nvSpPr>
        <p:spPr>
          <a:xfrm>
            <a:off x="1008000" y="3933720"/>
            <a:ext cx="74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就说“仙桃石”吧，它（  ）从天上飞下来的（   ），落在山顶的（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27000" y="0"/>
            <a:ext cx="1836720" cy="1773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看图，把下面句子说完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内容占位符 1" descr=""/>
          <p:cNvPicPr/>
          <p:nvPr/>
        </p:nvPicPr>
        <p:blipFill>
          <a:blip r:embed="rId1"/>
          <a:stretch/>
        </p:blipFill>
        <p:spPr>
          <a:xfrm>
            <a:off x="1979640" y="333360"/>
            <a:ext cx="6192720" cy="3959280"/>
          </a:xfrm>
          <a:prstGeom prst="rect">
            <a:avLst/>
          </a:prstGeom>
          <a:ln w="0">
            <a:noFill/>
          </a:ln>
        </p:spPr>
      </p:pic>
      <p:sp>
        <p:nvSpPr>
          <p:cNvPr id="69" name="文本框 4"/>
          <p:cNvSpPr/>
          <p:nvPr/>
        </p:nvSpPr>
        <p:spPr>
          <a:xfrm>
            <a:off x="971640" y="4437000"/>
            <a:ext cx="74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关键词：仙桃石  飞下来  落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2"/>
          <p:cNvSpPr/>
          <p:nvPr/>
        </p:nvSpPr>
        <p:spPr>
          <a:xfrm>
            <a:off x="71280" y="147600"/>
            <a:ext cx="1800360" cy="136836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看图，抓关键词把文中句子说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我是小导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温馨提示：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熟读课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楷体"/>
                <a:ea typeface="楷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向“游客”介绍你觉得最有趣的一块奇石。用文中的话，语调自然，可以配上动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"/>
          <p:cNvSpPr/>
          <p:nvPr/>
        </p:nvSpPr>
        <p:spPr>
          <a:xfrm>
            <a:off x="971640" y="620640"/>
            <a:ext cx="2232000" cy="115272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游戏环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板块四  活学活用   关注表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68360" y="23760"/>
            <a:ext cx="8229600" cy="592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大桃子 一（   ）猴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仙人   一（   ）金光闪闪的雄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（  ）狮子   一（   ）陡峭的山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朵朵（     ）    一片片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一条条（     ）    一根根（  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4"/>
          <p:cNvSpPr/>
          <p:nvPr/>
        </p:nvSpPr>
        <p:spPr>
          <a:xfrm>
            <a:off x="468360" y="54000"/>
            <a:ext cx="3166920" cy="108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量词拓展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内容占位符 3" descr=""/>
          <p:cNvPicPr/>
          <p:nvPr/>
        </p:nvPicPr>
        <p:blipFill>
          <a:blip r:embed="rId1"/>
          <a:stretch/>
        </p:blipFill>
        <p:spPr>
          <a:xfrm>
            <a:off x="0" y="34920"/>
            <a:ext cx="3475080" cy="23446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2"/>
          <a:stretch/>
        </p:blipFill>
        <p:spPr>
          <a:xfrm>
            <a:off x="4572000" y="0"/>
            <a:ext cx="3313080" cy="237960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3"/>
          <a:stretch/>
        </p:blipFill>
        <p:spPr>
          <a:xfrm>
            <a:off x="84240" y="2708280"/>
            <a:ext cx="3390840" cy="2658960"/>
          </a:xfrm>
          <a:prstGeom prst="rect">
            <a:avLst/>
          </a:prstGeom>
          <a:ln w="0">
            <a:noFill/>
          </a:ln>
        </p:spPr>
      </p:pic>
      <p:sp>
        <p:nvSpPr>
          <p:cNvPr id="79" name="矩形 6"/>
          <p:cNvSpPr/>
          <p:nvPr/>
        </p:nvSpPr>
        <p:spPr>
          <a:xfrm>
            <a:off x="4572000" y="2708280"/>
            <a:ext cx="3313080" cy="25210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任选一幅说话，用上“真像”或“好像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15560"/>
            <a:ext cx="8229600" cy="60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板块五   认真观察  学写汉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内容占位符 4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2281320" cy="2030760"/>
          </a:xfrm>
          <a:prstGeom prst="rect">
            <a:avLst/>
          </a:prstGeom>
          <a:ln w="0">
            <a:noFill/>
          </a:ln>
        </p:spPr>
      </p:pic>
      <p:pic>
        <p:nvPicPr>
          <p:cNvPr id="82" name="图片 1" descr=""/>
          <p:cNvPicPr/>
          <p:nvPr/>
        </p:nvPicPr>
        <p:blipFill>
          <a:blip r:embed="rId2"/>
          <a:stretch/>
        </p:blipFill>
        <p:spPr>
          <a:xfrm>
            <a:off x="3564000" y="404640"/>
            <a:ext cx="1871640" cy="2030760"/>
          </a:xfrm>
          <a:prstGeom prst="rect">
            <a:avLst/>
          </a:prstGeom>
          <a:ln w="0">
            <a:noFill/>
          </a:ln>
        </p:spPr>
      </p:pic>
      <p:pic>
        <p:nvPicPr>
          <p:cNvPr id="83" name="图片 2" descr=""/>
          <p:cNvPicPr/>
          <p:nvPr/>
        </p:nvPicPr>
        <p:blipFill>
          <a:blip r:embed="rId3"/>
          <a:stretch/>
        </p:blipFill>
        <p:spPr>
          <a:xfrm>
            <a:off x="6178680" y="404640"/>
            <a:ext cx="2065320" cy="20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板块一     认读字词    理解词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4784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全国小学语文名师工作室联盟张茂平工作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0c0"/>
                </a:solidFill>
                <a:latin typeface="楷体"/>
                <a:ea typeface="楷体"/>
              </a:rPr>
              <a:t>刘彬彬  开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2017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年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8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月</a:t>
            </a:r>
            <a:r>
              <a:rPr b="1" lang="en-US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5</a:t>
            </a:r>
            <a:r>
              <a:rPr b="1" lang="zh-CN" sz="2800" spc="-1" strike="noStrike">
                <a:solidFill>
                  <a:srgbClr val="0070c0"/>
                </a:solidFill>
                <a:latin typeface="微软雅黑"/>
                <a:ea typeface="微软雅黑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内容占位符 3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5868720" cy="3873600"/>
          </a:xfrm>
          <a:prstGeom prst="rect">
            <a:avLst/>
          </a:prstGeom>
          <a:ln w="0">
            <a:noFill/>
          </a:ln>
        </p:spPr>
      </p:pic>
      <p:sp>
        <p:nvSpPr>
          <p:cNvPr id="46" name="文本框 4"/>
          <p:cNvSpPr/>
          <p:nvPr/>
        </p:nvSpPr>
        <p:spPr>
          <a:xfrm>
            <a:off x="6822720" y="1600200"/>
            <a:ext cx="164340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楷体"/>
                <a:ea typeface="楷体"/>
              </a:rPr>
              <a:t>巨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707160" cy="18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形近字辨识（连连看）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ū               j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6"/>
          <p:cNvSpPr/>
          <p:nvPr/>
        </p:nvSpPr>
        <p:spPr>
          <a:xfrm>
            <a:off x="971640" y="3029040"/>
            <a:ext cx="216036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7"/>
          <p:cNvSpPr/>
          <p:nvPr/>
        </p:nvSpPr>
        <p:spPr>
          <a:xfrm>
            <a:off x="4572000" y="3029040"/>
            <a:ext cx="2193840" cy="1295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7200" spc="-1" strike="noStrike">
                <a:solidFill>
                  <a:srgbClr val="000000"/>
                </a:solidFill>
                <a:latin typeface="楷体"/>
                <a:ea typeface="楷体"/>
              </a:rPr>
              <a:t>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1"/>
          <p:cNvSpPr/>
          <p:nvPr/>
        </p:nvSpPr>
        <p:spPr>
          <a:xfrm>
            <a:off x="4356000" y="4987800"/>
            <a:ext cx="2737080" cy="1008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"/>
                <a:ea typeface="楷体"/>
              </a:rPr>
              <a:t>风景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24000" y="620640"/>
            <a:ext cx="8434080" cy="34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门</a:t>
            </a: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+</a:t>
            </a: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耳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楷体"/>
                <a:ea typeface="楷体"/>
              </a:rPr>
              <a:t>    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闻 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找出课文中“闻名”的近义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           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"/>
                <a:ea typeface="楷体"/>
              </a:rPr>
              <a:t>              </a:t>
            </a:r>
            <a:r>
              <a:rPr b="1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著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接箭头连接符 4"/>
          <p:cNvCxnSpPr/>
          <p:nvPr/>
        </p:nvCxnSpPr>
        <p:spPr>
          <a:xfrm>
            <a:off x="2484000" y="1052280"/>
            <a:ext cx="793080" cy="10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圆角矩形 11"/>
          <p:cNvSpPr/>
          <p:nvPr/>
        </p:nvSpPr>
        <p:spPr>
          <a:xfrm>
            <a:off x="3635280" y="217440"/>
            <a:ext cx="1152720" cy="576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wé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2"/>
          <p:cNvSpPr/>
          <p:nvPr/>
        </p:nvSpPr>
        <p:spPr>
          <a:xfrm>
            <a:off x="3276720" y="1685880"/>
            <a:ext cx="2232000" cy="720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wén 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3"/>
          <p:cNvSpPr/>
          <p:nvPr/>
        </p:nvSpPr>
        <p:spPr>
          <a:xfrm>
            <a:off x="3384720" y="3941640"/>
            <a:ext cx="2016000" cy="706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微软雅黑"/>
                <a:ea typeface="微软雅黑"/>
              </a:rPr>
              <a:t>zhù mí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68360" y="40464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考考自己吧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楷体"/>
                <a:ea typeface="楷体"/>
              </a:rPr>
              <a:t> 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新闻  百闻不如一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楷体"/>
                <a:ea typeface="楷体"/>
              </a:rPr>
              <a:t>名字  名不虚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11280" y="112536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板块二   循序渐进    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395280" y="146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闻名中外的</a:t>
            </a: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黄山风景区</a:t>
            </a:r>
            <a:r>
              <a:rPr b="0" lang="en-US" sz="5400" spc="-1" strike="noStrike">
                <a:solidFill>
                  <a:srgbClr val="ff0000"/>
                </a:solidFill>
                <a:latin typeface="楷体"/>
                <a:ea typeface="楷体"/>
              </a:rPr>
              <a:t>/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在我国安徽省南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3240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出趣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那里景色秀丽神奇，尤其是那些怪石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极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这就是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“猴子观海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仙人指路”就更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有趣</a:t>
            </a:r>
            <a:r>
              <a:rPr b="0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了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读到你觉得有趣的地方，声音可以大点，调子可以拉长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3"/>
          <p:cNvSpPr/>
          <p:nvPr/>
        </p:nvSpPr>
        <p:spPr>
          <a:xfrm>
            <a:off x="179280" y="3860640"/>
            <a:ext cx="4824360" cy="935280"/>
          </a:xfrm>
          <a:prstGeom prst="rect">
            <a:avLst/>
          </a:prstGeom>
          <a:solidFill>
            <a:srgbClr val="bbe0e3"/>
          </a:solidFill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揣摩如何读出“趣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4T14:55:38Z</dcterms:created>
  <dc:creator>Administrator</dc:creator>
  <dc:description/>
  <cp:keywords/>
  <dc:language>en-US</dc:language>
  <cp:lastModifiedBy>_</cp:lastModifiedBy>
  <dcterms:modified xsi:type="dcterms:W3CDTF">2017-08-22T03:43:07Z</dcterms:modified>
  <cp:revision>40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